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gif" ContentType="image/gif"/>
  <Override PartName="/ppt/media/image25.gif" ContentType="image/gif"/>
  <Override PartName="/ppt/media/image6.jpeg" ContentType="image/jpeg"/>
  <Override PartName="/ppt/media/image22.gif" ContentType="image/gif"/>
  <Override PartName="/ppt/media/image18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28.gif" ContentType="image/gif"/>
  <Override PartName="/ppt/media/image8.png" ContentType="image/png"/>
  <Override PartName="/ppt/media/image39.jpeg" ContentType="image/jpeg"/>
  <Override PartName="/ppt/media/image32.png" ContentType="image/png"/>
  <Override PartName="/ppt/media/image7.png" ContentType="image/png"/>
  <Override PartName="/ppt/media/image34.jpeg" ContentType="image/jpeg"/>
  <Override PartName="/ppt/media/image9.jpeg" ContentType="image/jpeg"/>
  <Override PartName="/ppt/media/image10.png" ContentType="image/png"/>
  <Override PartName="/ppt/media/image30.png" ContentType="image/png"/>
  <Override PartName="/ppt/media/image37.jpeg" ContentType="image/jpeg"/>
  <Override PartName="/ppt/media/image35.png" ContentType="image/png"/>
  <Override PartName="/ppt/media/image15.gif" ContentType="image/gif"/>
  <Override PartName="/ppt/media/image5.jpeg" ContentType="image/jpeg"/>
  <Override PartName="/ppt/media/image12.gif" ContentType="image/gif"/>
  <Override PartName="/ppt/media/image38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40.gif" ContentType="image/gif"/>
  <Override PartName="/ppt/media/image3.png" ContentType="image/png"/>
  <Override PartName="/ppt/media/image26.png" ContentType="image/png"/>
  <Override PartName="/ppt/media/image36.jpeg" ContentType="image/jpeg"/>
  <Override PartName="/ppt/media/image2.jpeg" ContentType="image/jpe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BADBE-A780-4BDD-821F-B4CF807A3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hyperlink" Target="http://sun.menloschool.org/~cweaver/cells/c/cell_membrane/" TargetMode="External"/><Relationship Id="rId2" Type="http://schemas.openxmlformats.org/officeDocument/2006/relationships/slide" Target="../slides/slide12.xml"/><Relationship Id="rId3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hyperlink" Target="http://vilenski.org/science/safari/cellstructure/mito.html" TargetMode="External"/><Relationship Id="rId2" Type="http://schemas.openxmlformats.org/officeDocument/2006/relationships/slide" Target="../slides/slide13.xml"/><Relationship Id="rId3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hyperlink" Target="http://www.biology.arizona.edu/chh/problem_sets/kidneysmetals/07t.html" TargetMode="External"/><Relationship Id="rId2" Type="http://schemas.openxmlformats.org/officeDocument/2006/relationships/slide" Target="../slides/slide23.xml"/><Relationship Id="rId3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hyperlink" Target="http://www.cbs.dtu.dk/staff/dave/roanoke/oakcell.html" TargetMode="External"/><Relationship Id="rId2" Type="http://schemas.openxmlformats.org/officeDocument/2006/relationships/hyperlink" Target="http://www.cbs.dtu.dk/staff/dave/roanoke/oakcell.html" TargetMode="External"/><Relationship Id="rId3" Type="http://schemas.openxmlformats.org/officeDocument/2006/relationships/hyperlink" Target="http://www.cbs.dtu.dk/staff/dave/roanoke/oakcell.html" TargetMode="External"/><Relationship Id="rId4" Type="http://schemas.openxmlformats.org/officeDocument/2006/relationships/slide" Target="../slides/slide40.xml"/><Relationship Id="rId5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hyperlink" Target="http://fig.cox.miami.edu/Faculty/Dana/105F00_11.html" TargetMode="External"/><Relationship Id="rId2" Type="http://schemas.openxmlformats.org/officeDocument/2006/relationships/hyperlink" Target="http://fig.cox.miami.edu/Faculty/Dana/105F00_11.html" TargetMode="External"/><Relationship Id="rId3" Type="http://schemas.openxmlformats.org/officeDocument/2006/relationships/slide" Target="../slides/slide44.xml"/><Relationship Id="rId4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hyperlink" Target="http://edservices.aea7.k12.ia.us/edtech/teacherpages/cwinstead3/centrioles.html" TargetMode="External"/><Relationship Id="rId2" Type="http://schemas.openxmlformats.org/officeDocument/2006/relationships/slide" Target="../slides/slide45.xml"/><Relationship Id="rId3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stanford.edu/group/hopes/basics/dna/b1.html" TargetMode="External"/><Relationship Id="rId2" Type="http://schemas.openxmlformats.org/officeDocument/2006/relationships/slide" Target="../slides/slide6.xml"/><Relationship Id="rId3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biology.arizona.edu/chh/problem_sets/kidneysmetals/graphics/bilayer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un.menloschool.org/~cweaver/cells/c/cell_membrane/heads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thomsonlearning.com.au/biology/guide/unit_3/unit111.html?/biology/guide/unit_3/s1a.html~main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un.menloschool.org/~cweaver/ cells/c/cell_membrane/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ilenski.org/science/safari/ cellstructure/mito.htm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micro.magnet.fsu.edu/cells/animals/images/mitochondria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cwx.prenhall.com/horton/medialib/media_portfolio/text_images/FG01_15-03UN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micro.magnet.fsu.edu/cells/animals/images/endoplasmic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science.siu.edu/plant-biology/PLB117/JPEGs%20CD/0073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biology.arizona.edu/.../ kidneysmetals/07t.htm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6789F-7BD6-412A-80F1-264F5F3836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:  http://biology4kids.com/files/cell_golgi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bioethics.org.nz/publications/human-genes-discussion-jan04/html/page4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personal.tmlp.com/Jimr57/textbook/chapter3/cyto1d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ED170-AB9F-43D2-BF82-A713E4105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images.google.com/imgres?imgurl=www.bi.umist.ac.uk/users/mjfjam/1CAT/cytoskeleton.gif&amp;imgrefurl=http://www.bi.umist.ac.uk/users/mjfjam/1CAT/l007.htm&amp;h=233&amp;w=419&amp;prev=/images%3Fq%3DCYTOSKELETON%26svnum%3D10%26hl%3Den%26lr%3D%26ie%3DUTF-8%26oe%3DUTF-8%26sa%3D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images.google.com/imgres?imgurl=www.personal.psu.edu/users/a/m/amh244/cytoskeleton.GIF&amp;imgrefurl=http://www.personal.psu.edu/users/a/m/amh244/cytoskelet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ml&amp;h=299&amp;w=350&amp;prev=/images%3Fq%3DCYTOSKELETON%26svnum%3D10%26hl%3Den%26lr%3D%26ie%3DUTF-8%26oe%3DUTF-8%26sa%3D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cbs.dtu.dk/staff/dave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/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roanoke/oakcell.htm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fig.cox.miami.edu/Faculty/Dana/chloroplast1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ig.cox.miami.edu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/Faculty/ Dana/105F00_11.htm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dservices.aea7.k12.ia.us/.../ cwinstead3/centrioles.htm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snv.jussieu.fr/bmedia/Mitose/Centri3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biologia.pl/kurs/centriole_b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stanford.edu/group/hopes/ basics/dna/b1.htm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D643-CBE0-4684-BD0D-A60AB4A7A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3799-588A-403E-A78E-AAF8E495E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7DED-BA77-4DFB-834C-9BE96C9C9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8204-45C0-46A1-ADD6-EDB1EF584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2A33D-F9BC-4179-AC00-633F74659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16DED-E4D5-4E80-A37C-090264453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60314-8199-4E14-88BD-635ABA57E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88803-5ED7-41D3-8DEB-B7E9ACD0E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37D50-E4B5-40F9-85EF-778765FA1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851FB-C703-4100-83B4-27DBCC6DE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E381A-AD77-406E-AAA4-898F28E35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4B7A-3AA6-40DE-86F3-86FA84C56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8B31B-9DC5-4EF3-8B57-7EC82DB23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09DF7-95CB-4BB7-B00A-5F54609F9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A05D9-E77B-4B0D-AB08-448C8F7B5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EECE8-7D6D-4B50-8F16-073A65D50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48166-E47D-490B-B5CB-4CA91F026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D3D0-96E6-47BF-9721-054018809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08B9-D01A-4F9D-8C65-709A99EE1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C348-0890-492B-8659-A5E411C27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B930-FF6D-43E6-BC8C-7FB24BBD5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D262-7A10-4369-A59A-B40B279B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B90F-482E-41F7-85C2-B4BB54F72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6475-9EB3-4BC5-8D38-256607EA9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16D33-AEE1-4764-AA9E-A819162C1AC0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538CE-9508-46A5-A780-7E54531A1D5E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bi.umist.ac.uk/users/mjfjam/1CAT/cytoskeleton.gif" TargetMode="External"/><Relationship Id="rId2" Type="http://schemas.openxmlformats.org/officeDocument/2006/relationships/image" Target="../media/image31.png"/><Relationship Id="rId3" Type="http://schemas.openxmlformats.org/officeDocument/2006/relationships/hyperlink" Target="http://www.personal.psu.edu/users/a/m/amh244/cytoskeleton.GIF" TargetMode="External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143000" y="228600"/>
            <a:ext cx="69343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The Organelles</a:t>
            </a:r>
            <a:endParaRPr b="0" lang="en-US" sz="18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7" name=""/>
          <p:cNvSpPr/>
          <p:nvPr/>
        </p:nvSpPr>
        <p:spPr>
          <a:xfrm>
            <a:off x="1143000" y="1523880"/>
            <a:ext cx="8534520" cy="54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ff33"/>
                </a:solidFill>
                <a:latin typeface="Comic Sans MS"/>
              </a:rPr>
              <a:t>-nucleus</a:t>
            </a:r>
            <a:r>
              <a:rPr b="0" lang="en-US" sz="30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66ff33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66ff33"/>
                </a:solidFill>
                <a:latin typeface="Comic Sans MS"/>
              </a:rPr>
              <a:t>-cytoplasm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mic Sans MS"/>
              </a:rPr>
              <a:t>-nucleolus</a:t>
            </a:r>
            <a:r>
              <a:rPr b="0" lang="en-US" sz="3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Comic Sans MS"/>
              </a:rPr>
              <a:t>-cytoskeleton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6600"/>
                </a:solidFill>
                <a:latin typeface="Comic Sans MS"/>
              </a:rPr>
              <a:t>-cell membrane</a:t>
            </a:r>
            <a:r>
              <a:rPr b="0" lang="en-US" sz="30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ff6600"/>
                </a:solidFill>
                <a:latin typeface="Comic Sans MS"/>
              </a:rPr>
              <a:t>-vacuole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ff33"/>
                </a:solidFill>
                <a:latin typeface="Comic Sans MS"/>
              </a:rPr>
              <a:t>-mitochondria</a:t>
            </a:r>
            <a:r>
              <a:rPr b="0" lang="en-US" sz="30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66ff33"/>
                </a:solidFill>
                <a:latin typeface="Comic Sans MS"/>
              </a:rPr>
              <a:t>-chloroplast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6600"/>
                </a:solidFill>
                <a:latin typeface="Comic Sans MS"/>
              </a:rPr>
              <a:t>-golgi Apparatus</a:t>
            </a:r>
            <a:r>
              <a:rPr b="0" lang="en-US" sz="30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ff6600"/>
                </a:solidFill>
                <a:latin typeface="Comic Sans MS"/>
              </a:rPr>
              <a:t>-centrioles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mic Sans MS"/>
              </a:rPr>
              <a:t>-lysosomes</a:t>
            </a:r>
            <a:r>
              <a:rPr b="0" lang="en-US" sz="3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Comic Sans MS"/>
              </a:rPr>
              <a:t>-ribosomes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ff6600"/>
                </a:solidFill>
                <a:latin typeface="Comic Sans MS"/>
              </a:rPr>
              <a:t>      </a:t>
            </a:r>
            <a:r>
              <a:rPr b="0" lang="en-US" sz="3000" spc="-1" strike="noStrike">
                <a:solidFill>
                  <a:srgbClr val="66ff33"/>
                </a:solidFill>
                <a:latin typeface="Comic Sans MS"/>
              </a:rPr>
              <a:t>-endoplasmic reticulum(ER)</a:t>
            </a:r>
            <a:r>
              <a:rPr b="0" lang="en-US" sz="3000" spc="-1" strike="noStrike">
                <a:solidFill>
                  <a:srgbClr val="66ff33"/>
                </a:solidFill>
                <a:latin typeface="Comic Sans MS"/>
              </a:rPr>
              <a:t>	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66ff33"/>
                </a:solidFill>
                <a:latin typeface="Comic Sans MS"/>
              </a:rPr>
              <a:t>       </a:t>
            </a:r>
            <a:r>
              <a:rPr b="0" i="1" lang="en-US" sz="3000" spc="-1" strike="noStrike">
                <a:solidFill>
                  <a:srgbClr val="66ff33"/>
                </a:solidFill>
                <a:latin typeface="Comic Sans MS"/>
              </a:rPr>
              <a:t>*Rough ER  &amp; Smooth ER</a:t>
            </a:r>
            <a:r>
              <a:rPr b="0" lang="en-US" sz="30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ff6600"/>
                </a:solidFill>
                <a:latin typeface="Comic Sans MS"/>
              </a:rPr>
              <a:t>	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E65E-8503-4409-9DC0-76DD1275D73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85800" y="1062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Comic Sans MS"/>
              </a:rPr>
              <a:t>Cell Membrane: 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omic Sans MS"/>
              </a:rPr>
              <a:t>PHOSPHOLIPID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419720" y="838080"/>
            <a:ext cx="4647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Each phospholipids has a </a:t>
            </a:r>
            <a:r>
              <a:rPr b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HYDROPHOBIC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   and </a:t>
            </a:r>
            <a:r>
              <a:rPr b="1" lang="en-US" sz="3200" spc="-1" strike="noStrike" u="sng">
                <a:solidFill>
                  <a:srgbClr val="ff6600"/>
                </a:solidFill>
                <a:uFillTx/>
                <a:latin typeface="Comic Sans MS"/>
              </a:rPr>
              <a:t>HYDROPHILIC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 en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62520" y="5105520"/>
            <a:ext cx="4952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HYDRO =  means water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PHOBIC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 = means afrai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PHILIC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  = means loving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28600" y="746280"/>
            <a:ext cx="3581280" cy="2149200"/>
          </a:xfrm>
          <a:prstGeom prst="rect">
            <a:avLst/>
          </a:prstGeom>
          <a:ln w="76320">
            <a:solidFill>
              <a:srgbClr val="993366"/>
            </a:solidFill>
            <a:miter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6667" t="5442" r="8798" b="4157"/>
          <a:stretch/>
        </p:blipFill>
        <p:spPr>
          <a:xfrm>
            <a:off x="5410080" y="2514600"/>
            <a:ext cx="2898720" cy="2583000"/>
          </a:xfrm>
          <a:prstGeom prst="rect">
            <a:avLst/>
          </a:prstGeom>
          <a:ln w="76320">
            <a:solidFill>
              <a:srgbClr val="56002b"/>
            </a:solidFill>
            <a:miter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7796" t="0" r="0" b="4104"/>
          <a:stretch/>
        </p:blipFill>
        <p:spPr>
          <a:xfrm>
            <a:off x="228600" y="3352680"/>
            <a:ext cx="3429000" cy="3119400"/>
          </a:xfrm>
          <a:prstGeom prst="rect">
            <a:avLst/>
          </a:prstGeom>
          <a:ln w="76320">
            <a:solidFill>
              <a:srgbClr val="220011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B9BA-7A8F-436D-B2F3-D1CD02589EB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57200" y="1130400"/>
            <a:ext cx="82296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99ff"/>
                </a:solidFill>
                <a:latin typeface="Comic Sans MS"/>
              </a:rPr>
              <a:t>One end of the molecule is “</a:t>
            </a:r>
            <a:r>
              <a:rPr b="1" lang="en-US" sz="3200" spc="-1" strike="noStrike">
                <a:solidFill>
                  <a:srgbClr val="ff99ff"/>
                </a:solidFill>
                <a:latin typeface="Comic Sans MS"/>
              </a:rPr>
              <a:t>afraid</a:t>
            </a:r>
            <a:r>
              <a:rPr b="0" lang="en-US" sz="3200" spc="-1" strike="noStrike">
                <a:solidFill>
                  <a:srgbClr val="ff99ff"/>
                </a:solidFill>
                <a:latin typeface="Comic Sans MS"/>
              </a:rPr>
              <a:t>” of the water and one end “</a:t>
            </a:r>
            <a:r>
              <a:rPr b="1" lang="en-US" sz="3200" spc="-1" strike="noStrike">
                <a:solidFill>
                  <a:srgbClr val="ff99ff"/>
                </a:solidFill>
                <a:latin typeface="Comic Sans MS"/>
              </a:rPr>
              <a:t>loves</a:t>
            </a:r>
            <a:r>
              <a:rPr b="0" lang="en-US" sz="3200" spc="-1" strike="noStrike">
                <a:solidFill>
                  <a:srgbClr val="ff99ff"/>
                </a:solidFill>
                <a:latin typeface="Comic Sans MS"/>
              </a:rPr>
              <a:t>” being in the water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66ff33"/>
                </a:solidFill>
                <a:latin typeface="Comic Sans MS"/>
              </a:rPr>
              <a:t>Proteins are stuck inside the membran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Proteins are across the bilayer and make the holes that let ions and molecules in and out of the cel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1062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Comic Sans MS"/>
              </a:rPr>
              <a:t>Cell Membrane: 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omic Sans MS"/>
              </a:rPr>
              <a:t>PHOSPHOLIPID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5034-0684-4C64-BBDC-E2309A0F63F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8001000" cy="517680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145" name=""/>
          <p:cNvSpPr txBox="1"/>
          <p:nvPr/>
        </p:nvSpPr>
        <p:spPr>
          <a:xfrm>
            <a:off x="1876320" y="685800"/>
            <a:ext cx="521028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Cell Membrane</a:t>
            </a:r>
            <a:endParaRPr b="1" lang="en-US" sz="66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B5F9-05A0-450B-93CB-B929355A93B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172200" y="533520"/>
            <a:ext cx="2209680" cy="22096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905120" y="228600"/>
            <a:ext cx="3733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66ff33"/>
                </a:solidFill>
                <a:uFillTx/>
                <a:latin typeface="Comic Sans MS"/>
              </a:rPr>
              <a:t>M</a:t>
            </a:r>
            <a:r>
              <a:rPr b="1" lang="en-US" sz="4400" spc="-1" strike="noStrike" u="sng">
                <a:solidFill>
                  <a:srgbClr val="ffcc00"/>
                </a:solidFill>
                <a:uFillTx/>
                <a:latin typeface="Comic Sans MS"/>
              </a:rPr>
              <a:t>i</a:t>
            </a:r>
            <a:r>
              <a:rPr b="1" lang="en-US" sz="4400" spc="-1" strike="noStrike" u="sng">
                <a:solidFill>
                  <a:srgbClr val="66ff33"/>
                </a:solidFill>
                <a:uFillTx/>
                <a:latin typeface="Comic Sans MS"/>
              </a:rPr>
              <a:t>t</a:t>
            </a:r>
            <a:r>
              <a:rPr b="1" lang="en-US" sz="4400" spc="-1" strike="noStrike" u="sng">
                <a:solidFill>
                  <a:srgbClr val="ffcc00"/>
                </a:solidFill>
                <a:uFillTx/>
                <a:latin typeface="Comic Sans MS"/>
              </a:rPr>
              <a:t>o</a:t>
            </a:r>
            <a:r>
              <a:rPr b="1" lang="en-US" sz="4400" spc="-1" strike="noStrike" u="sng">
                <a:solidFill>
                  <a:srgbClr val="66ff33"/>
                </a:solidFill>
                <a:uFillTx/>
                <a:latin typeface="Comic Sans MS"/>
              </a:rPr>
              <a:t>c</a:t>
            </a:r>
            <a:r>
              <a:rPr b="1" lang="en-US" sz="4400" spc="-1" strike="noStrike" u="sng">
                <a:solidFill>
                  <a:srgbClr val="ffcc00"/>
                </a:solidFill>
                <a:uFillTx/>
                <a:latin typeface="Comic Sans MS"/>
              </a:rPr>
              <a:t>h</a:t>
            </a:r>
            <a:r>
              <a:rPr b="1" lang="en-US" sz="4400" spc="-1" strike="noStrike" u="sng">
                <a:solidFill>
                  <a:srgbClr val="66ff33"/>
                </a:solidFill>
                <a:uFillTx/>
                <a:latin typeface="Comic Sans MS"/>
              </a:rPr>
              <a:t>o</a:t>
            </a:r>
            <a:r>
              <a:rPr b="1" lang="en-US" sz="4400" spc="-1" strike="noStrike" u="sng">
                <a:solidFill>
                  <a:srgbClr val="ffcc00"/>
                </a:solidFill>
                <a:uFillTx/>
                <a:latin typeface="Comic Sans MS"/>
              </a:rPr>
              <a:t>n</a:t>
            </a:r>
            <a:r>
              <a:rPr b="1" lang="en-US" sz="4400" spc="-1" strike="noStrike" u="sng">
                <a:solidFill>
                  <a:srgbClr val="66ff33"/>
                </a:solidFill>
                <a:uFillTx/>
                <a:latin typeface="Comic Sans MS"/>
              </a:rPr>
              <a:t>d</a:t>
            </a:r>
            <a:r>
              <a:rPr b="1" lang="en-US" sz="4400" spc="-1" strike="noStrike" u="sng">
                <a:solidFill>
                  <a:srgbClr val="ffcc00"/>
                </a:solidFill>
                <a:uFillTx/>
                <a:latin typeface="Comic Sans MS"/>
              </a:rPr>
              <a:t>r</a:t>
            </a:r>
            <a:r>
              <a:rPr b="1" lang="en-US" sz="4400" spc="-1" strike="noStrike" u="sng">
                <a:solidFill>
                  <a:srgbClr val="66ff33"/>
                </a:solidFill>
                <a:uFillTx/>
                <a:latin typeface="Comic Sans MS"/>
              </a:rPr>
              <a:t>i</a:t>
            </a:r>
            <a:r>
              <a:rPr b="1" lang="en-US" sz="4400" spc="-1" strike="noStrike" u="sng">
                <a:solidFill>
                  <a:srgbClr val="ffcc00"/>
                </a:solidFill>
                <a:uFillTx/>
                <a:latin typeface="Comic Sans MS"/>
              </a:rPr>
              <a:t>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1371600"/>
            <a:ext cx="8839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Mito =  </a:t>
            </a: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Mighty / Powe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The Power-House of the cel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e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They break down food molecules so the cell has the energy to liv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e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If a cell needs a lot of energy…it will have more mitochondri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AE16-BA5B-41F0-8C76-C7E48BFB101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28600" y="5791320"/>
            <a:ext cx="9296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o…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the more space it has the more energy it can creat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304920" y="0"/>
            <a:ext cx="8839080" cy="5181480"/>
            <a:chOff x="304920" y="0"/>
            <a:chExt cx="8839080" cy="5181480"/>
          </a:xfrm>
        </p:grpSpPr>
        <p:sp>
          <p:nvSpPr>
            <p:cNvPr id="151" name=""/>
            <p:cNvSpPr/>
            <p:nvPr/>
          </p:nvSpPr>
          <p:spPr>
            <a:xfrm>
              <a:off x="304920" y="0"/>
              <a:ext cx="88390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 u="sng">
                  <a:solidFill>
                    <a:srgbClr val="ffffcc"/>
                  </a:solidFill>
                  <a:uFillTx/>
                  <a:latin typeface="Comic Sans MS"/>
                </a:rPr>
                <a:t>The Mitochondria structure has </a:t>
              </a:r>
              <a:r>
                <a:rPr b="1" i="1" lang="en-US" sz="3200" spc="-1" strike="noStrike" u="sng">
                  <a:solidFill>
                    <a:srgbClr val="9c004e"/>
                  </a:solidFill>
                  <a:uFillTx/>
                  <a:latin typeface="Comic Sans MS"/>
                </a:rPr>
                <a:t>three</a:t>
              </a:r>
              <a:r>
                <a:rPr b="1" i="1" lang="en-US" sz="3200" spc="-1" strike="noStrike" u="sng">
                  <a:solidFill>
                    <a:srgbClr val="ffffcc"/>
                  </a:solidFill>
                  <a:uFillTx/>
                  <a:latin typeface="Comic Sans MS"/>
                </a:rPr>
                <a:t> main parts:</a:t>
              </a:r>
              <a:endParaRPr b="0" lang="en-US" sz="3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pic>
          <p:nvPicPr>
            <p:cNvPr id="152" name="" descr=""/>
            <p:cNvPicPr/>
            <p:nvPr/>
          </p:nvPicPr>
          <p:blipFill>
            <a:blip r:embed="rId1"/>
            <a:stretch/>
          </p:blipFill>
          <p:spPr>
            <a:xfrm>
              <a:off x="4648320" y="1219320"/>
              <a:ext cx="4343400" cy="3962160"/>
            </a:xfrm>
            <a:prstGeom prst="rect">
              <a:avLst/>
            </a:prstGeom>
            <a:ln w="57240">
              <a:solidFill>
                <a:srgbClr val="ffffcc"/>
              </a:solidFill>
              <a:miter/>
            </a:ln>
          </p:spPr>
        </p:pic>
      </p:grpSp>
      <p:grpSp>
        <p:nvGrpSpPr>
          <p:cNvPr id="153" name=""/>
          <p:cNvGrpSpPr/>
          <p:nvPr/>
        </p:nvGrpSpPr>
        <p:grpSpPr>
          <a:xfrm>
            <a:off x="228600" y="1447920"/>
            <a:ext cx="8067240" cy="4480920"/>
            <a:chOff x="228600" y="1447920"/>
            <a:chExt cx="8067240" cy="4480920"/>
          </a:xfrm>
        </p:grpSpPr>
        <p:sp>
          <p:nvSpPr>
            <p:cNvPr id="154" name=""/>
            <p:cNvSpPr/>
            <p:nvPr/>
          </p:nvSpPr>
          <p:spPr>
            <a:xfrm>
              <a:off x="228600" y="1447920"/>
              <a:ext cx="4343400" cy="448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 u="sng">
                  <a:solidFill>
                    <a:srgbClr val="9c004e"/>
                  </a:solidFill>
                  <a:uFillTx/>
                  <a:latin typeface="Comic Sans MS"/>
                </a:rPr>
                <a:t>OUTER MEMBRANE:</a:t>
              </a:r>
              <a:r>
                <a:rPr b="0" lang="en-US" sz="3200" spc="-1" strike="noStrike">
                  <a:solidFill>
                    <a:srgbClr val="ffffcc"/>
                  </a:solidFill>
                  <a:latin typeface="Comic Sans MS"/>
                </a:rPr>
                <a:t> covers the mitochondria</a:t>
              </a:r>
              <a:endParaRPr b="0" lang="en-US" sz="3200" spc="-1" strike="noStrike">
                <a:solidFill>
                  <a:srgbClr val="ffff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Comic Sans MS"/>
                </a:rPr>
                <a:t>	</a:t>
              </a:r>
              <a:endParaRPr b="0" lang="en-US" sz="3200" spc="-1" strike="noStrike">
                <a:solidFill>
                  <a:srgbClr val="ffff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 u="sng">
                  <a:solidFill>
                    <a:srgbClr val="9c004e"/>
                  </a:solidFill>
                  <a:uFillTx/>
                  <a:latin typeface="Comic Sans MS"/>
                </a:rPr>
                <a:t>INNER MEMBRANE:</a:t>
              </a:r>
              <a:r>
                <a:rPr b="0" lang="en-US" sz="3200" spc="-1" strike="noStrike">
                  <a:solidFill>
                    <a:srgbClr val="ffffcc"/>
                  </a:solidFill>
                  <a:latin typeface="Comic Sans MS"/>
                </a:rPr>
                <a:t> folds many times to increase the surface area because chemical reactions</a:t>
              </a:r>
              <a:endParaRPr b="0" lang="en-US" sz="3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913560" y="5334120"/>
              <a:ext cx="4382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Comic Sans MS"/>
                </a:rPr>
                <a:t>(glycolysis) occur here</a:t>
              </a:r>
              <a:endParaRPr b="0" lang="en-US" sz="32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9C54-553A-46C1-9C8B-3112BD29D74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52280" y="201600"/>
            <a:ext cx="381024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MATRIX</a:t>
            </a:r>
            <a:r>
              <a:rPr b="1" lang="en-US" sz="3200" spc="-1" strike="noStrike">
                <a:solidFill>
                  <a:srgbClr val="ffcc00"/>
                </a:solidFill>
                <a:latin typeface="Comic Sans MS"/>
              </a:rPr>
              <a:t>: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 fluid that has water and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proteins all mixed together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(like a solution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e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The proteins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take the food molecules in and combine them with Oxygen to release the energy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886200" y="380880"/>
            <a:ext cx="5057640" cy="609624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68D4-1AF5-4DAC-B400-B71AAB8B94D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71600" y="0"/>
            <a:ext cx="678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Comic Sans MS"/>
              </a:rPr>
              <a:t>E</a:t>
            </a:r>
            <a:r>
              <a:rPr b="1" lang="en-US" sz="4400" spc="-1" strike="noStrike" u="sng">
                <a:solidFill>
                  <a:srgbClr val="9c004e"/>
                </a:solidFill>
                <a:uFillTx/>
                <a:latin typeface="Comic Sans MS"/>
              </a:rPr>
              <a:t>n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Comic Sans MS"/>
              </a:rPr>
              <a:t>d</a:t>
            </a:r>
            <a:r>
              <a:rPr b="1" lang="en-US" sz="4400" spc="-1" strike="noStrike" u="sng">
                <a:solidFill>
                  <a:srgbClr val="9c004e"/>
                </a:solidFill>
                <a:uFillTx/>
                <a:latin typeface="Comic Sans MS"/>
              </a:rPr>
              <a:t>o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Comic Sans MS"/>
              </a:rPr>
              <a:t>p</a:t>
            </a:r>
            <a:r>
              <a:rPr b="1" lang="en-US" sz="4400" spc="-1" strike="noStrike" u="sng">
                <a:solidFill>
                  <a:srgbClr val="9c004e"/>
                </a:solidFill>
                <a:uFillTx/>
                <a:latin typeface="Comic Sans MS"/>
              </a:rPr>
              <a:t>l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Comic Sans MS"/>
              </a:rPr>
              <a:t>a</a:t>
            </a:r>
            <a:r>
              <a:rPr b="1" lang="en-US" sz="4400" spc="-1" strike="noStrike" u="sng">
                <a:solidFill>
                  <a:srgbClr val="9c004e"/>
                </a:solidFill>
                <a:uFillTx/>
                <a:latin typeface="Comic Sans MS"/>
              </a:rPr>
              <a:t>s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Comic Sans MS"/>
              </a:rPr>
              <a:t>m</a:t>
            </a:r>
            <a:r>
              <a:rPr b="1" lang="en-US" sz="4400" spc="-1" strike="noStrike" u="sng">
                <a:solidFill>
                  <a:srgbClr val="9c004e"/>
                </a:solidFill>
                <a:uFillTx/>
                <a:latin typeface="Comic Sans MS"/>
              </a:rPr>
              <a:t>i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Comic Sans MS"/>
              </a:rPr>
              <a:t>c R</a:t>
            </a:r>
            <a:r>
              <a:rPr b="1" lang="en-US" sz="4400" spc="-1" strike="noStrike" u="sng">
                <a:solidFill>
                  <a:srgbClr val="9c004e"/>
                </a:solidFill>
                <a:uFillTx/>
                <a:latin typeface="Comic Sans MS"/>
              </a:rPr>
              <a:t>e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Comic Sans MS"/>
              </a:rPr>
              <a:t>t</a:t>
            </a:r>
            <a:r>
              <a:rPr b="1" lang="en-US" sz="4400" spc="-1" strike="noStrike" u="sng">
                <a:solidFill>
                  <a:srgbClr val="9c004e"/>
                </a:solidFill>
                <a:uFillTx/>
                <a:latin typeface="Comic Sans MS"/>
              </a:rPr>
              <a:t>i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Comic Sans MS"/>
              </a:rPr>
              <a:t>c</a:t>
            </a:r>
            <a:r>
              <a:rPr b="1" lang="en-US" sz="4400" spc="-1" strike="noStrike" u="sng">
                <a:solidFill>
                  <a:srgbClr val="9c004e"/>
                </a:solidFill>
                <a:uFillTx/>
                <a:latin typeface="Comic Sans MS"/>
              </a:rPr>
              <a:t>u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Comic Sans MS"/>
              </a:rPr>
              <a:t>l</a:t>
            </a:r>
            <a:r>
              <a:rPr b="1" lang="en-US" sz="4400" spc="-1" strike="noStrike" u="sng">
                <a:solidFill>
                  <a:srgbClr val="9c004e"/>
                </a:solidFill>
                <a:uFillTx/>
                <a:latin typeface="Comic Sans MS"/>
              </a:rPr>
              <a:t>u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Comic Sans MS"/>
              </a:rPr>
              <a:t>m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990720"/>
            <a:ext cx="8839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also known as the “ER”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66ff33"/>
                </a:solidFill>
                <a:latin typeface="Comic Sans MS"/>
              </a:rPr>
              <a:t>it is an organelle inside the cell that i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Comic Sans MS"/>
              </a:rPr>
              <a:t>made up of membranes that are in the CYTOPLASM of the cell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There are two different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cec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mooth E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Rough E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0" name="medance" descr=""/>
          <p:cNvPicPr/>
          <p:nvPr/>
        </p:nvPicPr>
        <p:blipFill>
          <a:blip r:embed="rId1"/>
          <a:stretch/>
        </p:blipFill>
        <p:spPr>
          <a:xfrm>
            <a:off x="5638680" y="3581280"/>
            <a:ext cx="2949840" cy="2822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063F-0DC0-4829-A449-18D39409440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52280" y="611280"/>
            <a:ext cx="88394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cc"/>
                </a:solidFill>
                <a:uFillTx/>
                <a:latin typeface="Comic Sans MS"/>
              </a:rPr>
              <a:t>Smooth ER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Main function is to collect, maintain &amp; transport thing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e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haped slightly tubula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Creates steroid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e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tores Ions for the cell to keep nutrients balance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2" name="smooth_er" descr=""/>
          <p:cNvPicPr/>
          <p:nvPr/>
        </p:nvPicPr>
        <p:blipFill>
          <a:blip r:embed="rId1"/>
          <a:stretch/>
        </p:blipFill>
        <p:spPr>
          <a:xfrm>
            <a:off x="6858000" y="76320"/>
            <a:ext cx="1819440" cy="198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8A04-5EB9-41C4-97A1-9E31964DEC0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52280" y="444600"/>
            <a:ext cx="883944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66ff33"/>
                </a:solidFill>
                <a:uFillTx/>
                <a:latin typeface="Comic Sans MS"/>
              </a:rPr>
              <a:t>Rough ER</a:t>
            </a:r>
            <a:r>
              <a:rPr b="0" lang="en-US" sz="4800" spc="-1" strike="noStrike">
                <a:solidFill>
                  <a:srgbClr val="66ff33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Comic Sans MS"/>
              </a:rPr>
              <a:t>It has bumps all over it giving it a “rough” appearance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Bumps are called RIBOSOM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Comic Sans MS"/>
              </a:rPr>
              <a:t>ER collects the proteins (built by the ribosomes) and creates a bubble around the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VESICLE- is formed when the ER pinches off a part of its membran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4" name="rough_er" descr=""/>
          <p:cNvPicPr/>
          <p:nvPr/>
        </p:nvPicPr>
        <p:blipFill>
          <a:blip r:embed="rId1"/>
          <a:stretch/>
        </p:blipFill>
        <p:spPr>
          <a:xfrm>
            <a:off x="6667560" y="2057400"/>
            <a:ext cx="2247840" cy="14241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743200" y="1676520"/>
            <a:ext cx="4495680" cy="609480"/>
          </a:xfrm>
          <a:prstGeom prst="line">
            <a:avLst/>
          </a:prstGeom>
          <a:ln cap="sq"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147F-FB23-48A9-A054-AD1381888E5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28600" y="457200"/>
            <a:ext cx="861048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Comic Sans MS"/>
              </a:rPr>
              <a:t>**The vesicle can then move to the Golgi apparatus or the cell membrane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mic Sans MS"/>
              </a:rPr>
              <a:t>1)</a:t>
            </a:r>
            <a:r>
              <a:rPr b="0" lang="en-US" sz="3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Comic Sans MS"/>
              </a:rPr>
              <a:t>If the vesicle floats to the cell membrane, the proteins are going to be sent </a:t>
            </a:r>
            <a:r>
              <a:rPr b="1" i="1" lang="en-US" sz="3000" spc="-1" strike="noStrike">
                <a:solidFill>
                  <a:srgbClr val="ffff00"/>
                </a:solidFill>
                <a:latin typeface="Comic Sans MS"/>
              </a:rPr>
              <a:t>out</a:t>
            </a:r>
            <a:r>
              <a:rPr b="0" lang="en-US" sz="3000" spc="-1" strike="noStrike">
                <a:solidFill>
                  <a:srgbClr val="ffff00"/>
                </a:solidFill>
                <a:latin typeface="Comic Sans MS"/>
              </a:rPr>
              <a:t> of the cell……or (exocytosis)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ff33"/>
                </a:solidFill>
                <a:latin typeface="Comic Sans MS"/>
              </a:rPr>
              <a:t>2)</a:t>
            </a:r>
            <a:r>
              <a:rPr b="0" lang="en-US" sz="30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66ff33"/>
                </a:solidFill>
                <a:latin typeface="Comic Sans MS"/>
              </a:rPr>
              <a:t>If they move to the Golgi Apparatus, the proteins will be used </a:t>
            </a:r>
            <a:r>
              <a:rPr b="1" lang="en-US" sz="3000" spc="-1" strike="noStrike" u="sng">
                <a:solidFill>
                  <a:srgbClr val="66ff33"/>
                </a:solidFill>
                <a:uFillTx/>
                <a:latin typeface="Comic Sans MS"/>
              </a:rPr>
              <a:t>inside</a:t>
            </a:r>
            <a:r>
              <a:rPr b="0" lang="en-US" sz="3000" spc="-1" strike="noStrike">
                <a:solidFill>
                  <a:srgbClr val="66ff33"/>
                </a:solidFill>
                <a:latin typeface="Comic Sans MS"/>
              </a:rPr>
              <a:t> the cel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676520" y="763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99ff"/>
                </a:solidFill>
                <a:uFillTx/>
                <a:latin typeface="Comic Sans MS"/>
              </a:rPr>
              <a:t>MOVEMENT of VESICL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A96E-0237-440F-8381-FE52E1B6F5A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4920" y="990720"/>
            <a:ext cx="464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Nucleus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2280" y="2211480"/>
            <a:ext cx="82296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The “brain” of the cel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Controls all of the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cellular activiti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e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DNA is inside the nucleu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9589" t="5062" r="7227" b="5062"/>
          <a:stretch/>
        </p:blipFill>
        <p:spPr>
          <a:xfrm>
            <a:off x="5332320" y="736560"/>
            <a:ext cx="3430800" cy="35305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12" name=""/>
          <p:cNvSpPr/>
          <p:nvPr/>
        </p:nvSpPr>
        <p:spPr>
          <a:xfrm>
            <a:off x="3962520" y="1600200"/>
            <a:ext cx="2590560" cy="609480"/>
          </a:xfrm>
          <a:prstGeom prst="line">
            <a:avLst/>
          </a:prstGeom>
          <a:ln w="7632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69C1-7398-49E6-8FD0-E2FD8E08242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2297160" cy="2743200"/>
          </a:xfrm>
          <a:prstGeom prst="rect">
            <a:avLst/>
          </a:prstGeom>
          <a:ln w="76320">
            <a:solidFill>
              <a:srgbClr val="ffffcc"/>
            </a:solidFill>
            <a:miter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3886200" y="2895480"/>
            <a:ext cx="5029200" cy="3687840"/>
          </a:xfrm>
          <a:prstGeom prst="rect">
            <a:avLst/>
          </a:prstGeom>
          <a:ln w="76320">
            <a:solidFill>
              <a:srgbClr val="220011"/>
            </a:solidFill>
            <a:miter/>
          </a:ln>
        </p:spPr>
      </p:pic>
      <p:sp>
        <p:nvSpPr>
          <p:cNvPr id="170" name=""/>
          <p:cNvSpPr txBox="1"/>
          <p:nvPr/>
        </p:nvSpPr>
        <p:spPr>
          <a:xfrm rot="19390200">
            <a:off x="-228240" y="2333160"/>
            <a:ext cx="75913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mooth ER  vs.  Rough ER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E85E-7BDD-490A-ACAC-7DC62B42AC9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0728-C8C2-49BE-AB44-D8D36F06C5D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85800" y="1844640"/>
            <a:ext cx="7848720" cy="2803680"/>
          </a:xfrm>
          <a:prstGeom prst="rect">
            <a:avLst/>
          </a:prstGeom>
          <a:ln w="57240">
            <a:solidFill>
              <a:srgbClr val="ffffcc"/>
            </a:solidFill>
            <a:miter/>
          </a:ln>
        </p:spPr>
      </p:pic>
      <p:sp>
        <p:nvSpPr>
          <p:cNvPr id="173" name=""/>
          <p:cNvSpPr txBox="1"/>
          <p:nvPr/>
        </p:nvSpPr>
        <p:spPr>
          <a:xfrm>
            <a:off x="838080" y="838080"/>
            <a:ext cx="16858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Secretion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86400" y="838080"/>
            <a:ext cx="16858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Exocytosis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257800"/>
            <a:ext cx="6705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The </a:t>
            </a:r>
            <a:r>
              <a:rPr b="1" lang="en-US" sz="3200" spc="-1" strike="noStrike" u="sng">
                <a:solidFill>
                  <a:srgbClr val="66ffff"/>
                </a:solidFill>
                <a:uFillTx/>
                <a:latin typeface="Arial"/>
              </a:rPr>
              <a:t>release</a:t>
            </a: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 of intracellular molecules (hormones or proteins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6320" y="5410080"/>
            <a:ext cx="296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6ff33"/>
                </a:solidFill>
                <a:uFillTx/>
                <a:latin typeface="Arial"/>
              </a:rPr>
              <a:t>EXOCYTOSIS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765D-1E08-40CB-88BD-4B39ED0D21A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channel protein"/>
          <p:cNvPicPr/>
          <p:nvPr/>
        </p:nvPicPr>
        <p:blipFill>
          <a:blip r:embed="rId1"/>
          <a:stretch/>
        </p:blipFill>
        <p:spPr>
          <a:xfrm>
            <a:off x="457200" y="2057400"/>
            <a:ext cx="4267080" cy="42670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 txBox="1"/>
          <p:nvPr/>
        </p:nvSpPr>
        <p:spPr>
          <a:xfrm>
            <a:off x="2133720" y="609480"/>
            <a:ext cx="3809880" cy="9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OSMOSIS</a:t>
            </a:r>
            <a:endParaRPr b="1" lang="en-US" sz="66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04920" y="2057400"/>
            <a:ext cx="4495680" cy="0"/>
          </a:xfrm>
          <a:prstGeom prst="line">
            <a:avLst/>
          </a:prstGeom>
          <a:ln w="763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04920" y="6324480"/>
            <a:ext cx="4495680" cy="0"/>
          </a:xfrm>
          <a:prstGeom prst="line">
            <a:avLst/>
          </a:prstGeom>
          <a:ln w="763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04920" y="2057040"/>
            <a:ext cx="0" cy="4343400"/>
          </a:xfrm>
          <a:prstGeom prst="line">
            <a:avLst/>
          </a:prstGeom>
          <a:ln w="763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800600" y="2057040"/>
            <a:ext cx="0" cy="4267080"/>
          </a:xfrm>
          <a:prstGeom prst="line">
            <a:avLst/>
          </a:prstGeom>
          <a:ln w="763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743200"/>
            <a:ext cx="37339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Comic Sans MS"/>
              </a:rPr>
              <a:t>Osmosis-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the movement of water across the cell membran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C965-D3BD-4B0F-9FEE-FD9837A9F98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66ff33"/>
                </a:solidFill>
                <a:uFillTx/>
                <a:latin typeface="Comic Sans MS"/>
                <a:ea typeface="Times New Roman"/>
              </a:rPr>
              <a:t>GOLGI APPARATU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133720" y="32000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ff33"/>
                </a:solidFill>
                <a:uFillTx/>
                <a:latin typeface="Comic Sans MS"/>
                <a:ea typeface="Times New Roman"/>
              </a:rPr>
              <a:t>WHAT DOES IT DO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4038480"/>
            <a:ext cx="914400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Comic Sans MS"/>
                <a:ea typeface="Times New Roman"/>
              </a:rPr>
              <a:t>1)  it takes simple </a:t>
            </a:r>
            <a:r>
              <a:rPr b="0" lang="en-US" sz="3000" spc="-1" strike="noStrike" u="sng">
                <a:solidFill>
                  <a:srgbClr val="ffcc00"/>
                </a:solidFill>
                <a:uFillTx/>
                <a:latin typeface="Comic Sans MS"/>
                <a:ea typeface="Times New Roman"/>
              </a:rPr>
              <a:t>molecules</a:t>
            </a:r>
            <a:r>
              <a:rPr b="0" lang="en-US" sz="3000" spc="-1" strike="noStrike">
                <a:solidFill>
                  <a:srgbClr val="ffcc00"/>
                </a:solidFill>
                <a:latin typeface="Comic Sans MS"/>
                <a:ea typeface="Times New Roman"/>
              </a:rPr>
              <a:t> and </a:t>
            </a:r>
            <a:r>
              <a:rPr b="0" lang="en-US" sz="3000" spc="-1" strike="noStrike" u="sng">
                <a:solidFill>
                  <a:srgbClr val="ffcc00"/>
                </a:solidFill>
                <a:uFillTx/>
                <a:latin typeface="Comic Sans MS"/>
                <a:ea typeface="Times New Roman"/>
              </a:rPr>
              <a:t>combines</a:t>
            </a:r>
            <a:r>
              <a:rPr b="0" lang="en-US" sz="3000" spc="-1" strike="noStrike">
                <a:solidFill>
                  <a:srgbClr val="ffcc00"/>
                </a:solidFill>
                <a:latin typeface="Comic Sans MS"/>
                <a:ea typeface="Times New Roman"/>
              </a:rPr>
              <a:t> them to make </a:t>
            </a:r>
            <a:r>
              <a:rPr b="0" lang="en-US" sz="3000" spc="-1" strike="noStrike" u="sng">
                <a:solidFill>
                  <a:srgbClr val="ffcc00"/>
                </a:solidFill>
                <a:uFillTx/>
                <a:latin typeface="Comic Sans MS"/>
                <a:ea typeface="Times New Roman"/>
              </a:rPr>
              <a:t>larger</a:t>
            </a:r>
            <a:r>
              <a:rPr b="0" lang="en-US" sz="3000" spc="-1" strike="noStrike">
                <a:solidFill>
                  <a:srgbClr val="ffcc00"/>
                </a:solidFill>
                <a:latin typeface="Comic Sans MS"/>
                <a:ea typeface="Times New Roman"/>
              </a:rPr>
              <a:t> molecules.</a:t>
            </a:r>
            <a:r>
              <a:rPr b="0" lang="en-US" sz="3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516564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2) takes those larger </a:t>
            </a:r>
            <a:r>
              <a:rPr b="0" lang="en-US" sz="3000" spc="-1" strike="noStrike" u="sng">
                <a:solidFill>
                  <a:srgbClr val="ff66ff"/>
                </a:solidFill>
                <a:uFillTx/>
                <a:latin typeface="Comic Sans MS"/>
                <a:ea typeface="Times New Roman"/>
              </a:rPr>
              <a:t>molecules</a:t>
            </a:r>
            <a:r>
              <a:rPr b="0" lang="en-US" sz="30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 and puts them into </a:t>
            </a:r>
            <a:r>
              <a:rPr b="0" lang="en-US" sz="3000" spc="-1" strike="noStrike" u="sng">
                <a:solidFill>
                  <a:srgbClr val="ff66ff"/>
                </a:solidFill>
                <a:uFillTx/>
                <a:latin typeface="Comic Sans MS"/>
                <a:ea typeface="Times New Roman"/>
              </a:rPr>
              <a:t>packs</a:t>
            </a:r>
            <a:r>
              <a:rPr b="0" lang="en-US" sz="30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 called GOLGI </a:t>
            </a:r>
            <a:r>
              <a:rPr b="0" lang="en-US" sz="3000" spc="-1" strike="noStrike" u="sng">
                <a:solidFill>
                  <a:srgbClr val="ff66ff"/>
                </a:solidFill>
                <a:uFillTx/>
                <a:latin typeface="Comic Sans MS"/>
                <a:ea typeface="Times New Roman"/>
              </a:rPr>
              <a:t>VESICLES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-46800" y="944640"/>
            <a:ext cx="59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  <a:ea typeface="Times New Roman"/>
              </a:rPr>
              <a:t>Also called the Golgi Complex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7000" y="1752480"/>
            <a:ext cx="9117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It is made up of a stack of flattened out sacs …like a loose stack of pancak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90" name="golgi" descr=""/>
          <p:cNvPicPr/>
          <p:nvPr/>
        </p:nvPicPr>
        <p:blipFill>
          <a:blip r:embed="rId1"/>
          <a:stretch/>
        </p:blipFill>
        <p:spPr>
          <a:xfrm>
            <a:off x="7394400" y="228600"/>
            <a:ext cx="1749600" cy="158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920D-859A-4C94-BCB3-435331A6735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2133720" y="228600"/>
            <a:ext cx="4876560" cy="12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GOLGI APPARATU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192" name="golgi1" descr=""/>
          <p:cNvPicPr/>
          <p:nvPr/>
        </p:nvPicPr>
        <p:blipFill>
          <a:blip r:embed="rId1"/>
          <a:stretch/>
        </p:blipFill>
        <p:spPr>
          <a:xfrm>
            <a:off x="1981080" y="1905120"/>
            <a:ext cx="5105520" cy="2819160"/>
          </a:xfrm>
          <a:prstGeom prst="rect">
            <a:avLst/>
          </a:prstGeom>
          <a:ln w="76320">
            <a:solidFill>
              <a:srgbClr val="66ff33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228600" y="5029200"/>
            <a:ext cx="9144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Think about building a model of a </a:t>
            </a:r>
            <a:r>
              <a:rPr b="0" lang="en-US" sz="3000" spc="-1" strike="noStrike" u="sng">
                <a:solidFill>
                  <a:srgbClr val="ffffcc"/>
                </a:solidFill>
                <a:uFillTx/>
                <a:latin typeface="Comic Sans MS"/>
                <a:ea typeface="Times New Roman"/>
              </a:rPr>
              <a:t>ship</a:t>
            </a:r>
            <a:r>
              <a:rPr b="0" lang="en-US" sz="3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(that's the molecule). Then take that model and put it in a </a:t>
            </a:r>
            <a:r>
              <a:rPr b="0" lang="en-US" sz="3000" spc="-1" strike="noStrike" u="sng">
                <a:solidFill>
                  <a:srgbClr val="ffffcc"/>
                </a:solidFill>
                <a:uFillTx/>
                <a:latin typeface="Comic Sans MS"/>
                <a:ea typeface="Times New Roman"/>
              </a:rPr>
              <a:t>bottle</a:t>
            </a:r>
            <a:r>
              <a:rPr b="0" lang="en-US" sz="3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(that's the vesicle).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F901-62D2-4784-83C1-FC7BACB3746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523880" y="838080"/>
            <a:ext cx="5639040" cy="56390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523880" y="2286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Golgi apparatu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0CD8-1C05-4ED5-A8EB-7F234D9CA34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5960" y="-2289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Comic Sans MS"/>
              </a:rPr>
              <a:t>LYSOSOMES </a:t>
            </a:r>
            <a:r>
              <a:rPr b="1" lang="en-US" sz="4400" spc="-1" strike="noStrike">
                <a:solidFill>
                  <a:srgbClr val="ccffff"/>
                </a:solidFill>
                <a:latin typeface="Comic Sans MS"/>
              </a:rPr>
              <a:t>(primarily animal)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800" y="1295280"/>
            <a:ext cx="876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ff33"/>
                </a:solidFill>
                <a:latin typeface="Comic Sans MS"/>
                <a:ea typeface="Times New Roman"/>
              </a:rPr>
              <a:t>They combine with the food taken in by the cel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228600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The enzymes in the lysosome bond to food &amp; digest it (acidic interior) 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-360" y="3733920"/>
            <a:ext cx="89154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e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Next…smaller molecules are released which are absorbed by the mitochondria 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C168-E06D-4C12-BD83-0EF2B3C33BE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cc00"/>
                </a:solidFill>
                <a:uFillTx/>
                <a:latin typeface="Times New Roman"/>
              </a:rPr>
              <a:t>LYSOSOME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6868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When an organelle no longer works, the lysosome will attach itself to it and break it down like food (kind of like a cannibal)</a:t>
            </a:r>
            <a:r>
              <a:rPr b="0" lang="en-US" sz="30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omic Sans MS"/>
              </a:rPr>
              <a:t>Chemicals can then be reabsorbed or excreted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Lysosomes can also destroy the cell if it breaks open accidentally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omic Sans MS"/>
              </a:rPr>
              <a:t>“</a:t>
            </a:r>
            <a:r>
              <a:rPr b="0" lang="en-US" sz="3000" spc="-1" strike="noStrike">
                <a:solidFill>
                  <a:srgbClr val="ff0000"/>
                </a:solidFill>
                <a:latin typeface="Comic Sans MS"/>
              </a:rPr>
              <a:t>Suicide Sacs”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omic Sans MS"/>
              </a:rPr>
              <a:t>UV light damages lysosome membrane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The enzymes inside the lysosome spread throughout the cell and digest it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23EA-CFCE-4760-89D1-D879B264EC5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LYSOSOM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03" name="lysosome1" descr=""/>
          <p:cNvPicPr/>
          <p:nvPr/>
        </p:nvPicPr>
        <p:blipFill>
          <a:blip r:embed="rId1"/>
          <a:stretch/>
        </p:blipFill>
        <p:spPr>
          <a:xfrm>
            <a:off x="3200400" y="4267080"/>
            <a:ext cx="2666880" cy="22100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78604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05" name="lysosome2" descr=""/>
          <p:cNvPicPr/>
          <p:nvPr/>
        </p:nvPicPr>
        <p:blipFill>
          <a:blip r:embed="rId2"/>
          <a:stretch/>
        </p:blipFill>
        <p:spPr>
          <a:xfrm>
            <a:off x="1600200" y="1600200"/>
            <a:ext cx="5638680" cy="2209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1E63-C03E-489A-80AB-D9B33AB6C03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04920" y="1066680"/>
            <a:ext cx="3733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ff33"/>
                </a:solidFill>
                <a:latin typeface="Comic Sans MS"/>
              </a:rPr>
              <a:t>CHROMOSOMES</a:t>
            </a:r>
            <a:r>
              <a:rPr b="0" lang="en-US" sz="3000" spc="-1" strike="noStrike">
                <a:solidFill>
                  <a:srgbClr val="ffffcc"/>
                </a:solidFill>
                <a:latin typeface="Comic Sans MS"/>
              </a:rPr>
              <a:t>-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2533680"/>
            <a:ext cx="3124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6600"/>
                </a:solidFill>
                <a:uFillTx/>
                <a:latin typeface="Comic Sans MS"/>
              </a:rPr>
              <a:t>Chromosomes</a:t>
            </a:r>
            <a:r>
              <a:rPr b="0" lang="en-US" sz="3000" spc="-1" strike="noStrike">
                <a:solidFill>
                  <a:srgbClr val="ffffcc"/>
                </a:solidFill>
                <a:latin typeface="Comic Sans MS"/>
              </a:rPr>
              <a:t> – 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52680" y="2117880"/>
            <a:ext cx="5486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ecff"/>
                </a:solidFill>
                <a:latin typeface="Comic Sans MS"/>
              </a:rPr>
              <a:t>carry the information that determines what traits a living thing will have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914400"/>
            <a:ext cx="3124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00"/>
                </a:solidFill>
                <a:latin typeface="Comic Sans MS"/>
              </a:rPr>
              <a:t>are found inside the nucleus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90920" y="76320"/>
            <a:ext cx="464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Comic Sans MS"/>
              </a:rPr>
              <a:t>Nucleus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8" name="nucleus" descr=""/>
          <p:cNvPicPr/>
          <p:nvPr/>
        </p:nvPicPr>
        <p:blipFill>
          <a:blip r:embed="rId1"/>
          <a:stretch/>
        </p:blipFill>
        <p:spPr>
          <a:xfrm>
            <a:off x="7394400" y="76320"/>
            <a:ext cx="1749600" cy="17715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 flipV="1">
            <a:off x="6629400" y="914040"/>
            <a:ext cx="1066680" cy="609480"/>
          </a:xfrm>
          <a:prstGeom prst="line">
            <a:avLst/>
          </a:prstGeom>
          <a:ln cap="sq" w="76320">
            <a:solidFill>
              <a:srgbClr val="ff66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0" name="diagram01" descr=""/>
          <p:cNvPicPr/>
          <p:nvPr/>
        </p:nvPicPr>
        <p:blipFill>
          <a:blip r:embed="rId2"/>
          <a:stretch/>
        </p:blipFill>
        <p:spPr>
          <a:xfrm>
            <a:off x="762120" y="3962520"/>
            <a:ext cx="7696080" cy="2603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A59A-355C-46D4-A165-DB971918B6B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3504960" cy="35053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2819520" y="4906800"/>
            <a:ext cx="426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Lysosome Anima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5410080" y="990720"/>
            <a:ext cx="3353040" cy="3352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E613-9681-40F1-A933-850204CD395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Comic Sans MS"/>
              </a:rPr>
              <a:t>CYTOPLASM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240" y="685440"/>
            <a:ext cx="8915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ecff"/>
                </a:solidFill>
                <a:uFillTx/>
                <a:latin typeface="Comic Sans MS"/>
              </a:rPr>
              <a:t>Protoplasm</a:t>
            </a:r>
            <a:r>
              <a:rPr b="0" lang="en-US" sz="2800" spc="-1" strike="noStrike">
                <a:solidFill>
                  <a:srgbClr val="ccecff"/>
                </a:solidFill>
                <a:latin typeface="Comic Sans MS"/>
              </a:rPr>
              <a:t>- everything inside the cell membran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ff33"/>
                </a:solidFill>
                <a:uFillTx/>
                <a:latin typeface="Comic Sans MS"/>
              </a:rPr>
              <a:t>Cytoplasm</a:t>
            </a: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- everything inside the cell membrane &amp; outside of the nucleus except the cell’s nucleu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Comic Sans MS"/>
              </a:rPr>
              <a:t>Cytosol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Mostly H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ontains organel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ontains salts, dissolved gasses &amp; nutrien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9955-D643-4191-8E5A-24F3AE90D6F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01800" y="304920"/>
            <a:ext cx="7340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CYTOPLASM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12" name="animal%20cell" descr=""/>
          <p:cNvPicPr/>
          <p:nvPr/>
        </p:nvPicPr>
        <p:blipFill>
          <a:blip r:embed="rId1"/>
          <a:stretch/>
        </p:blipFill>
        <p:spPr>
          <a:xfrm>
            <a:off x="1371600" y="1219320"/>
            <a:ext cx="5181480" cy="51814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6477120" y="2270160"/>
            <a:ext cx="25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cytoplasm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5105520" y="2666880"/>
            <a:ext cx="1371600" cy="7632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22F9-7592-4BD9-A32E-93643E2679B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Comic Sans MS"/>
              </a:rPr>
              <a:t>CYTOSKELET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ff33"/>
                </a:solidFill>
                <a:uFillTx/>
                <a:latin typeface="Comic Sans MS"/>
              </a:rPr>
              <a:t>Chief functions include: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51"/>
              </a:spcBef>
              <a:buClr>
                <a:srgbClr val="cce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ecff"/>
                </a:solidFill>
                <a:latin typeface="Comic Sans MS"/>
              </a:rPr>
              <a:t>movement of material through the cell for stuff not diffusion or osmosis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51"/>
              </a:spcBef>
              <a:buClr>
                <a:srgbClr val="cce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ecff"/>
                </a:solidFill>
                <a:latin typeface="Comic Sans MS"/>
              </a:rPr>
              <a:t>maintaining the shape of the cell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ecff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ccecff"/>
                </a:solidFill>
                <a:latin typeface="Comic Sans MS"/>
              </a:rPr>
              <a:t>keeping the cell from getting smashed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BAD3-9CE0-49BC-9C55-655E36E50DF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cytoskeleton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38480" y="914400"/>
            <a:ext cx="3589560" cy="2000160"/>
          </a:xfrm>
          <a:prstGeom prst="rect">
            <a:avLst/>
          </a:prstGeom>
          <a:ln w="0">
            <a:noFill/>
          </a:ln>
        </p:spPr>
      </p:pic>
      <p:pic>
        <p:nvPicPr>
          <p:cNvPr id="218" name="cytoskeleton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343400" y="3657600"/>
            <a:ext cx="3581280" cy="25909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 rot="5400000">
            <a:off x="-433800" y="3252600"/>
            <a:ext cx="5715000" cy="428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YTOSKELET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D3AD-4F1E-43C2-883C-5AE2FFCDE56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VACUOL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91440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Comic Sans MS"/>
                <a:ea typeface="Times New Roman"/>
              </a:rPr>
              <a:t>Vacuoles are “bubbles” that float in the cell 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Vacuoles are more important to the survival of plant cells than they are to animal cell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6A73-3261-4C57-9E64-136A0DF9501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28600" y="-766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Times New Roman"/>
              </a:rPr>
              <a:t>VACUOLE: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 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Comic Sans MS"/>
                <a:ea typeface="Arial"/>
              </a:rPr>
              <a:t>STORAGE IN PLANT CELLS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51920" y="10666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6600"/>
                </a:solidFill>
                <a:latin typeface="Comic Sans MS"/>
                <a:ea typeface="Times New Roman"/>
              </a:rPr>
              <a:t>Vacuoles in plants support structure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6600"/>
                </a:solidFill>
                <a:latin typeface="Comic Sans MS"/>
                <a:ea typeface="Times New Roman"/>
              </a:rPr>
              <a:t>Vacuoles hold onto things that the cell might need…like a backpack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6600"/>
                </a:solidFill>
                <a:latin typeface="Comic Sans MS"/>
                <a:ea typeface="Times New Roman"/>
              </a:rPr>
              <a:t>There are some vacuoles that hold onto waste products, similar to having a big septic tank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6600"/>
                </a:solidFill>
                <a:latin typeface="Comic Sans MS"/>
                <a:ea typeface="Times New Roman"/>
              </a:rPr>
              <a:t>Storing waste products protects the cell from contamination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00FE-5724-492C-99CA-A3ED3E06ABE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VACUOLE CONT’D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Comic Sans MS"/>
                <a:ea typeface="Times New Roman"/>
              </a:rPr>
              <a:t>So, when there is no water…the vacuole shrinks and the cell wall is the only thing holding the plant together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DD04-C195-4402-BF8D-4BFB150A796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609480" y="30492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Comic Sans MS"/>
                <a:ea typeface="Times New Roman"/>
              </a:rPr>
              <a:t>You will know that a plant's vacuoles are shrinking when you see the plant begin to droop ove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76520" y="271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28" name="vacuole1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7239240" cy="36734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838080" y="2057400"/>
            <a:ext cx="731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  <a:ea typeface="Arial"/>
              </a:rPr>
              <a:t>HOLDING UP THE WALL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33520" y="1905120"/>
            <a:ext cx="7924680" cy="4724280"/>
          </a:xfrm>
          <a:prstGeom prst="rect">
            <a:avLst/>
          </a:prstGeom>
          <a:noFill/>
          <a:ln w="763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E2DD-A9B3-46AF-8842-5D0B0BAB466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0" y="3855960"/>
            <a:ext cx="891540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Comic Sans MS"/>
              </a:rPr>
              <a:t>Turgor Pressure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force exerted by the water entering (osmosis) the vacuole, which then swells exerting internal force on the cell wal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cc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Causes “rigidity” so the plant my increase by stacking cell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609480" y="-17640"/>
            <a:ext cx="7620120" cy="3827520"/>
            <a:chOff x="609480" y="-17640"/>
            <a:chExt cx="7620120" cy="3827520"/>
          </a:xfrm>
        </p:grpSpPr>
        <p:pic>
          <p:nvPicPr>
            <p:cNvPr id="233" name="vacuole1" descr=""/>
            <p:cNvPicPr/>
            <p:nvPr/>
          </p:nvPicPr>
          <p:blipFill>
            <a:blip r:embed="rId1"/>
            <a:stretch/>
          </p:blipFill>
          <p:spPr>
            <a:xfrm>
              <a:off x="685800" y="-17640"/>
              <a:ext cx="7543800" cy="382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609480" y="0"/>
              <a:ext cx="7620120" cy="3809880"/>
            </a:xfrm>
            <a:prstGeom prst="rect">
              <a:avLst/>
            </a:prstGeom>
            <a:noFill/>
            <a:ln w="7632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B551-7E4A-4A61-B547-1C022353104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763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DNA - Deoxyribonucleic acid</a:t>
            </a: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8077320" cy="544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A517-6761-469C-8C97-B390A7EA725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rcRect l="20830" t="11115" r="15834" b="7787"/>
          <a:stretch/>
        </p:blipFill>
        <p:spPr>
          <a:xfrm>
            <a:off x="0" y="797040"/>
            <a:ext cx="9144000" cy="606096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0" y="-2520"/>
            <a:ext cx="9144000" cy="916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Chloroplast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1219320" y="1295280"/>
            <a:ext cx="5181480" cy="4572000"/>
            <a:chOff x="1219320" y="1295280"/>
            <a:chExt cx="5181480" cy="4572000"/>
          </a:xfrm>
        </p:grpSpPr>
        <p:sp>
          <p:nvSpPr>
            <p:cNvPr id="238" name=""/>
            <p:cNvSpPr/>
            <p:nvPr/>
          </p:nvSpPr>
          <p:spPr>
            <a:xfrm>
              <a:off x="4343400" y="1905120"/>
              <a:ext cx="1752480" cy="914400"/>
            </a:xfrm>
            <a:prstGeom prst="ellipse">
              <a:avLst/>
            </a:prstGeom>
            <a:noFill/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876920" y="4800600"/>
              <a:ext cx="1523880" cy="1066680"/>
            </a:xfrm>
            <a:prstGeom prst="ellipse">
              <a:avLst/>
            </a:prstGeom>
            <a:noFill/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219320" y="2666880"/>
              <a:ext cx="1447560" cy="1067040"/>
            </a:xfrm>
            <a:prstGeom prst="ellipse">
              <a:avLst/>
            </a:prstGeom>
            <a:noFill/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447920" y="1295280"/>
              <a:ext cx="2133360" cy="990720"/>
            </a:xfrm>
            <a:prstGeom prst="ellipse">
              <a:avLst/>
            </a:prstGeom>
            <a:noFill/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563C-AA06-4EA8-B208-9CCDAF97C39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76320" y="99072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the site of photosynthesis in eukaryotic cell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Comic Sans MS"/>
              </a:rPr>
              <a:t>disk-like structures 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omposed of a single membrane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Comic Sans MS"/>
              </a:rPr>
              <a:t>surrounding a fluid containing stacks of membranous disk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-2520"/>
            <a:ext cx="9144000" cy="916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Chloroplast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44" name="chloroplast" descr=""/>
          <p:cNvPicPr/>
          <p:nvPr/>
        </p:nvPicPr>
        <p:blipFill>
          <a:blip r:embed="rId1"/>
          <a:stretch/>
        </p:blipFill>
        <p:spPr>
          <a:xfrm>
            <a:off x="6850080" y="1676520"/>
            <a:ext cx="1760400" cy="2388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32F1-2A97-4712-A4D1-9D31C5703C5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4191120" y="1600200"/>
            <a:ext cx="4867200" cy="4800600"/>
          </a:xfrm>
          <a:prstGeom prst="rect">
            <a:avLst/>
          </a:prstGeom>
          <a:ln w="38160">
            <a:solidFill>
              <a:srgbClr val="ffffcc"/>
            </a:solidFill>
            <a:miter/>
          </a:ln>
        </p:spPr>
      </p:pic>
      <p:sp>
        <p:nvSpPr>
          <p:cNvPr id="246" name=""/>
          <p:cNvSpPr/>
          <p:nvPr/>
        </p:nvSpPr>
        <p:spPr>
          <a:xfrm>
            <a:off x="76320" y="0"/>
            <a:ext cx="40384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SOLAR energy radiated from the sun is captured by plants(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chloroplast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Then it is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Comic Sans MS"/>
              </a:rPr>
              <a:t>instant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aneously changed into ELECTRICAL energy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Then packaged as CHEMICAL energy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029200" y="380880"/>
            <a:ext cx="3657600" cy="764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Chloroplas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3307-04FB-4BDD-9306-29CAC286152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3124080" y="152280"/>
            <a:ext cx="2590920" cy="1129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Comic Sans MS"/>
              </a:rPr>
              <a:t>Chloroplast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49" name="photosynthesis" descr=""/>
          <p:cNvPicPr/>
          <p:nvPr/>
        </p:nvPicPr>
        <p:blipFill>
          <a:blip r:embed="rId1"/>
          <a:stretch/>
        </p:blipFill>
        <p:spPr>
          <a:xfrm>
            <a:off x="1295280" y="3044880"/>
            <a:ext cx="6264360" cy="3736800"/>
          </a:xfrm>
          <a:prstGeom prst="rect">
            <a:avLst/>
          </a:prstGeom>
          <a:ln w="76320">
            <a:solidFill>
              <a:srgbClr val="ff6600"/>
            </a:solidFill>
            <a:miter/>
          </a:ln>
        </p:spPr>
      </p:pic>
      <p:sp>
        <p:nvSpPr>
          <p:cNvPr id="250" name=""/>
          <p:cNvSpPr/>
          <p:nvPr/>
        </p:nvSpPr>
        <p:spPr>
          <a:xfrm>
            <a:off x="0" y="82224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 u="sng">
                <a:solidFill>
                  <a:srgbClr val="ff6600"/>
                </a:solidFill>
                <a:uFillTx/>
                <a:latin typeface="Comic Sans MS"/>
              </a:rPr>
              <a:t>photosynthesis</a:t>
            </a:r>
            <a:r>
              <a:rPr b="0" lang="en-US" sz="3000" spc="-1" strike="noStrike">
                <a:solidFill>
                  <a:srgbClr val="ff6600"/>
                </a:solidFill>
                <a:latin typeface="Comic Sans MS"/>
              </a:rPr>
              <a:t> takes place inside the chloroplast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6320" y="1736640"/>
            <a:ext cx="3352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ffff"/>
                </a:solidFill>
                <a:latin typeface="Comic Sans MS"/>
              </a:rPr>
              <a:t>Photosynthesis-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048120" y="1447920"/>
            <a:ext cx="6629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mic Sans MS"/>
              </a:rPr>
              <a:t>the process in which plant use water, carbon dioxide, and energy form the sun to make food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8D9F-937A-4DF5-9C04-1D329F63872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0" y="990720"/>
            <a:ext cx="9144000" cy="57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Comic Sans MS"/>
              </a:rPr>
              <a:t>No energy transformation is 100% efficient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Comic Sans MS"/>
              </a:rPr>
              <a:t>Not all the solar energy captured is converted to electrical and then chemical energy. 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Comic Sans MS"/>
              </a:rPr>
              <a:t>Some of it gets lost as heat or other forms of energy (light)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-2520"/>
            <a:ext cx="9144000" cy="916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Chloroplast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E918-0D5D-4E47-90D6-3EE38E82C8B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533520"/>
            <a:ext cx="9144000" cy="64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generally appear in animal cells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they look like two cylinders at right angles to one anothe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when viewed with an electron microscope, the cylinders show up as nine bundles of tiny microtubules arranged in a circl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they help to form the fibers that move chromosomes around when the cell is dividing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as animal cells prepare for cell division these two centrioles separate and go to opposite ends of the cell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c0099"/>
                </a:solidFill>
                <a:uFillTx/>
                <a:latin typeface="Comic Sans MS"/>
              </a:rPr>
              <a:t>Centrioles: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CFCF-2760-437E-8832-DE0CD4F5ABE9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2743200" cy="441972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rcRect l="8334" t="1368" r="5953" b="0"/>
          <a:stretch/>
        </p:blipFill>
        <p:spPr>
          <a:xfrm>
            <a:off x="3276720" y="2514600"/>
            <a:ext cx="5486400" cy="43434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 txBox="1"/>
          <p:nvPr/>
        </p:nvSpPr>
        <p:spPr>
          <a:xfrm>
            <a:off x="3200400" y="609480"/>
            <a:ext cx="54864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Centrioles</a:t>
            </a:r>
            <a:endParaRPr b="1" lang="en-US" sz="4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F5E8-E274-4B08-9CA9-32032C3110C8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52280" y="673200"/>
            <a:ext cx="89917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small dot-like structures in cell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Comic Sans MS"/>
              </a:rPr>
              <a:t>they are often associated with forming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66ffff"/>
                </a:solidFill>
                <a:latin typeface="Comic Sans MS"/>
              </a:rPr>
              <a:t>rough E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Ribosomes are the site of protein synthesis in cell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Comic Sans MS"/>
              </a:rPr>
              <a:t>they are made in the nucleus of the cel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A ribosome can make the average protein in about one minut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-1800"/>
            <a:ext cx="914400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Ribosom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89FF-3987-4C67-96D0-C3AC46C5D4A0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76320" y="792000"/>
            <a:ext cx="914400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Ribosomes are made up of proteins and ribonucleic acid(RNA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These molecules are arranged into two subunits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These subunits are attached to each other and together form the entire ribosom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When viewed through a light microscope the ribosomes appear as do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-1800"/>
            <a:ext cx="914400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Ribosome Structur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646B-E677-45A1-B037-EC3DA2523DDE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52280" y="395280"/>
            <a:ext cx="8763120" cy="52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Comic Sans MS"/>
              </a:rPr>
              <a:t>Types of Ribosom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There are two kinds of ribosom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1)  Attached to the rough E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2) floating in the cell cytoplas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Attached ribosomes make proteins that are used in the ER or transported within the ER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Free ribosomes make proteins that are used in the cytoplas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5861-3C01-4E6B-AFAF-8361F94EEF01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28600" y="841320"/>
            <a:ext cx="87631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DNA carries the genetic information of a cell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Consists of thousands of gen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Comic Sans MS"/>
              </a:rPr>
              <a:t>It specifies everything that is needed for the maintenance, function, and replication of the cel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It is made up of 4 different base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(A)  adenine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(C)  cytosin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(T)  thymine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(G)  guanin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1062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DNA - Deoxyribonucleic acid</a:t>
            </a: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910E-C5B8-4C13-AF43-836781060E0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76320" y="0"/>
            <a:ext cx="906768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cap="sq"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Monotype Corsiva"/>
              </a:rPr>
              <a:t>Exercize your brain w/</a:t>
            </a:r>
            <a:endParaRPr b="1" lang="en-US" sz="6000" spc="1" strike="noStrike">
              <a:ln cap="sq"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838080" y="5334120"/>
            <a:ext cx="77724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cap="sq"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Monotype Corsiva"/>
              </a:rPr>
              <a:t>Homework Questions</a:t>
            </a:r>
            <a:endParaRPr b="1" lang="en-US" sz="6000" spc="1" strike="noStrike">
              <a:ln cap="sq"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267" name="marlajack" descr=""/>
          <p:cNvPicPr/>
          <p:nvPr/>
        </p:nvPicPr>
        <p:blipFill>
          <a:blip r:embed="rId1"/>
          <a:stretch/>
        </p:blipFill>
        <p:spPr>
          <a:xfrm>
            <a:off x="3657600" y="2590920"/>
            <a:ext cx="2217600" cy="2514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8A8C-B112-4976-A013-B8FB318515E3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905120" y="-7632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Comic Sans MS"/>
              </a:rPr>
              <a:t>Assignment Part A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(slides 1-11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28600" y="45720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00"/>
                </a:solidFill>
                <a:latin typeface="Comic Sans MS"/>
              </a:rPr>
              <a:t>Directions:  Write-out and highlight the following questions. Then use your notes to answer them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1676520"/>
            <a:ext cx="922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1.  Which organelle is known as the “Brain” of the cell?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2376360"/>
            <a:ext cx="9220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Comic Sans MS"/>
              </a:rPr>
              <a:t>2.  If you look at a picture of a cell, how would you recognize the nucleolus?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3443400"/>
            <a:ext cx="922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3.  List the 3 main jobs of the cell membran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5132520"/>
            <a:ext cx="96775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5.  The term hydro means _________. 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66ffff"/>
                </a:solidFill>
                <a:latin typeface="Comic Sans MS"/>
              </a:rPr>
              <a:t>A. If something is hydrophobic it is _________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66ffff"/>
                </a:solidFill>
                <a:latin typeface="Comic Sans MS"/>
              </a:rPr>
              <a:t>B. If something is hydrophilic it is __________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4038480"/>
            <a:ext cx="9220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Comic Sans MS"/>
              </a:rPr>
              <a:t>4. Explain why the cell membrane has tiny holes made of protein in it.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sq" w="200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DAFF-2C13-4637-A6D4-BBF42EA3D1D2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905120" y="-7632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Comic Sans MS"/>
              </a:rPr>
              <a:t>Assignment Part B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(slides 11-23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28600" y="45720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Comic Sans MS"/>
              </a:rPr>
              <a:t>Directions:  Write-out and highlight the following questions. Then use your notes to answer them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6320" y="1447920"/>
            <a:ext cx="9219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1.  Which organelle is known as the Power House” of the cell?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6320" y="2362320"/>
            <a:ext cx="9219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Comic Sans MS"/>
              </a:rPr>
              <a:t>2.  The mitochondria of a cell share the same job as the __________ (hint- an organ) in the human body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6320" y="3429000"/>
            <a:ext cx="9219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3.  Explain how you could distinguish the rough ER from the smooth ER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6320" y="4921200"/>
            <a:ext cx="9296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5. What type of reactions occur on the inner membrane of the mitochondria?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(produces energy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6320" y="4281480"/>
            <a:ext cx="921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Comic Sans MS"/>
              </a:rPr>
              <a:t>4. What is the main job of the smooth ER?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cap="sq" w="200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6320" y="5943600"/>
            <a:ext cx="921996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Comic Sans MS"/>
              </a:rPr>
              <a:t>6.  The process of H</a:t>
            </a:r>
            <a:r>
              <a:rPr b="0" lang="en-US" sz="3600" spc="-1" strike="noStrike" baseline="-25000">
                <a:solidFill>
                  <a:srgbClr val="66ffff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66ffff"/>
                </a:solidFill>
                <a:latin typeface="Comic Sans MS"/>
              </a:rPr>
              <a:t>O moving across the cell membrane is called?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AA1C-6399-411B-A2EC-0BCCD0163A15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905120" y="-7632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Comic Sans MS"/>
              </a:rPr>
              <a:t>Assignment Part C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(slides 23-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28600" y="45720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Comic Sans MS"/>
              </a:rPr>
              <a:t>Directions:  Write-out and highlight the following questions. Then use your notes to answer them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6320" y="1447920"/>
            <a:ext cx="921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1. What is the main function of a lysosome?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6320" y="2362320"/>
            <a:ext cx="921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Comic Sans MS"/>
              </a:rPr>
              <a:t>2.  What happens if a lysosome breaks open? 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6320" y="3429000"/>
            <a:ext cx="9219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3. Explain the difference between cytoplasm and protoplasm. (draw a diagram if it will help you)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6320" y="4921200"/>
            <a:ext cx="929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5. Which organelle is the site of photosynthesis?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6320" y="4281480"/>
            <a:ext cx="921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Comic Sans MS"/>
              </a:rPr>
              <a:t>4.  Why are vacuoles important to PLANTS?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cap="sq" w="200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6320" y="5943600"/>
            <a:ext cx="9219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Comic Sans MS"/>
              </a:rPr>
              <a:t>6. What are the three main ingredients for photosynthesis?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17CB-CB19-4B32-A568-C3EFE8846F7F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905120" y="-7632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Comic Sans MS"/>
              </a:rPr>
              <a:t>Assignment Part D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(slides 23-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28600" y="45720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Comic Sans MS"/>
              </a:rPr>
              <a:t>Directions:  Write-out and highlight the following questions. Then use your notes to answer them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6320" y="1447920"/>
            <a:ext cx="921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1. Centrioles are usually found in __________ cell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6320" y="2362320"/>
            <a:ext cx="921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Comic Sans MS"/>
              </a:rPr>
              <a:t>2.  What is the main function of a centriole? 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6320" y="3429000"/>
            <a:ext cx="9219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3. List the two places you can find a ribosome in an animal cell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6320" y="4662360"/>
            <a:ext cx="921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Comic Sans MS"/>
              </a:rPr>
              <a:t>4.  What do ribosomes make?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cap="sq" w="200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6DEE-D1CC-4937-A9BA-4F641CB17199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2590920" y="266688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See also wksht to go with questions parts B-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DD9C-C043-40EF-8E6F-C7D9D14558FA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rcRect l="0" t="7592" r="0" b="0"/>
          <a:stretch/>
        </p:blipFill>
        <p:spPr>
          <a:xfrm>
            <a:off x="304920" y="1066680"/>
            <a:ext cx="8381880" cy="55659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33520" y="25884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DNA -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Deoxyribonucleic acid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09E6-B495-4444-B716-C9216EC95A1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80880" y="53352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Comic Sans MS"/>
              </a:rPr>
              <a:t>NUCLEOLU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2514600"/>
            <a:ext cx="4572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33"/>
                </a:solidFill>
                <a:latin typeface="Comic Sans MS"/>
              </a:rPr>
              <a:t>The dark area in the nucleu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Comic Sans MS"/>
              </a:rPr>
              <a:t>Like a tiny nucleus inside the nucleus.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9589" t="5062" r="7227" b="5062"/>
          <a:stretch/>
        </p:blipFill>
        <p:spPr>
          <a:xfrm>
            <a:off x="5332320" y="736560"/>
            <a:ext cx="3430800" cy="35305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30" name=""/>
          <p:cNvSpPr/>
          <p:nvPr/>
        </p:nvSpPr>
        <p:spPr>
          <a:xfrm>
            <a:off x="4038480" y="914400"/>
            <a:ext cx="2819520" cy="10666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BA89-1F02-4FDF-86AA-B2CE5946E81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0880" y="15228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CELL MEMBRANE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1066680"/>
            <a:ext cx="8763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holds the cell togethe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e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keeps all of the pieces (like the organelles and the cytoplasm) inside the cel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e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controls what goes in and out of the cel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48006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Example:</a:t>
            </a: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like a big plastic bag  with tiny holes in i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FE06-89F8-4408-ABBE-B9F2562E6A2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85800" y="5335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ecff"/>
                </a:solidFill>
                <a:uFillTx/>
                <a:latin typeface="Comic Sans MS"/>
              </a:rPr>
              <a:t>How does the cell membrane work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6320" y="1617840"/>
            <a:ext cx="86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Has 2 layers of MOLECULES = BILAYE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Bi means tw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Comic Sans MS"/>
              </a:rPr>
              <a:t>The layers are made up of molecules called              </a:t>
            </a:r>
            <a:r>
              <a:rPr b="1" lang="en-US" sz="3200" spc="-1" strike="noStrike" u="sng">
                <a:solidFill>
                  <a:srgbClr val="66ff33"/>
                </a:solidFill>
                <a:uFillTx/>
                <a:latin typeface="Comic Sans MS"/>
              </a:rPr>
              <a:t>phospholipid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**THINK OF a sandwich with two pieces of bread and some stuffing on the inside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96EA-2084-4B23-82F6-149D142F06C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2T02:19:43Z</dcterms:created>
  <dc:creator>Laurie Messina</dc:creator>
  <dc:description/>
  <dc:language>en-US</dc:language>
  <cp:lastModifiedBy>Valued Sony Customer</cp:lastModifiedBy>
  <dcterms:modified xsi:type="dcterms:W3CDTF">2004-10-26T13:29:32Z</dcterms:modified>
  <cp:revision>156</cp:revision>
  <dc:subject/>
  <dc:title>Slide 1</dc:title>
</cp:coreProperties>
</file>